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E601-193C-4EA1-BAD8-0D453D667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D37-BAC5-4775-BD09-CB04C86D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F882-603D-4BEB-B031-4CFDFA263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09A2-714E-4A68-B225-DB26CE6D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9F8-9FFC-4B5A-97E0-A901D0FE3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835F-1561-440A-8142-702A83252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723C-DA02-4CE9-B922-264D90E5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0DA3D-492C-4B37-907F-74DBA67D1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0840D-03D1-4D31-AE37-294DB5C6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D85C-CB38-4575-90A8-DC5201C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0B09-A37F-497A-9955-4991C8AE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3A2-0B2E-4A94-9DED-82222431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CB0D-4D57-4E30-AB94-0FC947AA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039B-26D4-4313-8951-B929D5BD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7F76B-2A2C-438F-B9C9-56A2306C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73D7E-9090-4DB2-87C8-7EA67EDC6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52AF-28B8-435A-A3B0-384C78003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510-529A-4ADF-829F-37212B9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D2D3-BEC5-4A13-B4CA-298366916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C912-55CD-49BC-B93F-0B7FB7B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8BF9-1C59-4FE3-9805-D13CFE5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A6C-59AF-4A59-BACA-8EB4865D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D177-B621-4D63-A581-7172626C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069D-132C-4816-9971-D61DBB77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4825-EA29-4473-B72D-0FCE16A7D9C4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16E3-30C5-4D4F-8652-C8349125E61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cc"/>
                </a:solidFill>
                <a:latin typeface="Rockwell Extra Bold"/>
              </a:rPr>
              <a:t>VM 2006</a:t>
            </a:r>
            <a:br>
              <a:rPr sz="4800"/>
            </a:br>
            <a:r>
              <a:rPr b="0" lang="en-GB" sz="4800" spc="-1" strike="noStrike">
                <a:solidFill>
                  <a:srgbClr val="ffffcc"/>
                </a:solidFill>
                <a:latin typeface="Rockwell Extra Bold"/>
              </a:rPr>
              <a:t>Sverige vs England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353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vor er det best stemning?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i har sett nærmere på forholdene på e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svensk og en engelsk pub.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Valget er ditt.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981080" y="0"/>
            <a:ext cx="510696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Engelsk pub: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46080"/>
            <a:ext cx="9096480" cy="68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1" i="1" lang="fr-FR" sz="6600" spc="-1" strike="noStrike">
                <a:solidFill>
                  <a:srgbClr val="ffffcc"/>
                </a:solidFill>
                <a:latin typeface="Rockwell Extra Bold"/>
              </a:rPr>
              <a:t>Svensk pub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22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ehh.. </a:t>
            </a:r>
            <a:br>
              <a:rPr sz="5400"/>
            </a:br>
            <a:r>
              <a:rPr b="0" lang="en-GB" sz="5400" spc="-1" strike="noStrike">
                <a:solidFill>
                  <a:srgbClr val="ffffcc"/>
                </a:solidFill>
                <a:latin typeface="Rockwell Extra Bold"/>
              </a:rPr>
              <a:t>Heia Sverige?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792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9560" cy="719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1T12:50:11Z</dcterms:created>
  <dc:creator>Ian Murray</dc:creator>
  <dc:description/>
  <dc:language>en-US</dc:language>
  <cp:lastModifiedBy>Frode Marki</cp:lastModifiedBy>
  <dcterms:modified xsi:type="dcterms:W3CDTF">2006-06-19T22:06:24Z</dcterms:modified>
  <cp:revision>8</cp:revision>
  <dc:subject/>
  <dc:title>New Monkey Bigg Market (Newcastle-Upon-Tyne)</dc:title>
</cp:coreProperties>
</file>