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518-F0B2-4DDD-8B5B-4ACA82D1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4F3-F6F5-4F6F-B491-9A3CC4AB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33B-3039-48EC-8981-ACF5E13D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22C-DBCD-4D6D-B182-E0C51425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82F4-119A-4C92-A114-34773DC8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F404-1F14-4C4B-BD4A-8E511DD0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13C2-D972-4831-80E9-7EEBBC63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FF8C-C38A-444F-B86B-4F1F23FB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354A-F353-40DE-8C67-78EAB876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C89F-4B88-47EF-8B87-A8FC8615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FBA1-9522-40B4-844B-B5D59E2F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D9E-97F3-47D2-B9AC-75C00E2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9DF2-8B8B-4419-B1B3-5D10A6DA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F0E9-BEE7-4744-9D76-6268ECAB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DC4F-2C7B-4A6D-852A-F2AFC74C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0A10-FBDD-476A-8533-1A23CF4D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239A-7635-4FD9-B676-AA45A05C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3BE-6D00-4A0E-9CB7-C92D96E1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C4A-6AF5-4873-853E-63A78544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A03-A899-4135-B113-52DCDDA5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01A-E98B-4998-AF85-F53A0DF4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5A3-2641-42D5-96DE-EBD64D85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353-4AC5-4FEE-A8B0-027300F2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CDA-7F39-4A1A-8E5D-FC26A5E3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3CD5-328A-4BD1-802B-AC59500A517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013C-146D-438B-B721-8E514A1C426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Rockwell Extra Bold"/>
              </a:rPr>
              <a:t>VM 2006</a:t>
            </a:r>
            <a:br>
              <a:rPr sz="4800"/>
            </a:br>
            <a:r>
              <a:rPr b="0" lang="en-GB" sz="4800" spc="-1" strike="noStrike">
                <a:solidFill>
                  <a:srgbClr val="ffffcc"/>
                </a:solidFill>
                <a:latin typeface="Rockwell Extra Bold"/>
              </a:rPr>
              <a:t>Sverige vs England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2565000"/>
            <a:ext cx="8353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vor er det best stemning?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i har sett nærmere på forholdene på e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vensk og en engelsk pub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lget er ditt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1069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5400" spc="-1" strike="noStrike">
                <a:solidFill>
                  <a:srgbClr val="ffffcc"/>
                </a:solidFill>
                <a:latin typeface="Rockwell Extra Bold"/>
              </a:rPr>
              <a:t>Engelsk pub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0964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fr-FR" sz="6600" spc="-1" strike="noStrike">
                <a:solidFill>
                  <a:srgbClr val="ffffcc"/>
                </a:solidFill>
                <a:latin typeface="Rockwell Extra Bold"/>
              </a:rPr>
              <a:t>Svensk pub</a:t>
            </a: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Rockwell Extra Bold"/>
              </a:rPr>
              <a:t>ehh.. </a:t>
            </a:r>
            <a:br>
              <a:rPr sz="5400"/>
            </a:br>
            <a:r>
              <a:rPr b="0" lang="en-GB" sz="5400" spc="-1" strike="noStrike">
                <a:solidFill>
                  <a:srgbClr val="ffffcc"/>
                </a:solidFill>
                <a:latin typeface="Rockwell Extra Bold"/>
              </a:rPr>
              <a:t>Heia Sverige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2:50:11Z</dcterms:created>
  <dc:creator>Ian Murray</dc:creator>
  <dc:description/>
  <dc:language>en-US</dc:language>
  <cp:lastModifiedBy>Frode Marki</cp:lastModifiedBy>
  <dcterms:modified xsi:type="dcterms:W3CDTF">2006-06-19T22:06:24Z</dcterms:modified>
  <cp:revision>8</cp:revision>
  <dc:subject/>
  <dc:title>New Monkey Bigg Market (Newcastle-Upon-Tyne)</dc:title>
</cp:coreProperties>
</file>