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B36-0F03-4AFF-84F2-CCBF782E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BEFD-DAD6-4205-9436-9D33E972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3C7-9947-4B45-9DA2-CF42C7A43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26DD-5FA8-48EB-ACEB-1B694D4AE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B63B-F461-46CD-9273-6832A88F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9590-0DAE-46C9-AAEB-315C0C46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13DC-D777-48FF-B5A7-E5087E975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97CD-2C6F-48D4-81F9-C51EFF185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1A9E-1D2C-48FF-AD6F-B98D3CF8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1DD7-6320-4084-8B96-58567F5C1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ECA-D83B-45F3-9F3E-664691AB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1E4B-6F58-4B2F-A078-DE8CBCF14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037A1-6C31-42DA-A516-8140BE650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22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FOTBALLQUIZ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9.Mot hvem spilte Colombia da Andres Escobar scoret sitt skjebnesvangre selvmål i VM 1994?</a:t>
            </a: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5445000"/>
            <a:ext cx="79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) USA   B) Sveits  C) Romania   D) Argent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06436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3a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.Hvor mange spillere var fra den hjemlige ligaen i Norges VM-tropp 1998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29600" cy="4055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69040" y="5661000"/>
            <a:ext cx="560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A) 2      B) 3     C) 4     D) 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) Hvilke draktfarger har svenske GA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1268280"/>
            <a:ext cx="6913800" cy="40863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6920" y="5516640"/>
            <a:ext cx="7993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ød og svart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Lys og mørk blå 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ød og blå   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Grønt og sv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. I Hvilket år ble dette VM-bildet tat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258920" y="1268280"/>
            <a:ext cx="7234200" cy="4119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58920" y="5661000"/>
            <a:ext cx="6842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A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1986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1988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C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1990   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D)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3.Hvem scoret begge Norges mål da vi slo Frankrike 2-0 i 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4920" y="5229360"/>
            <a:ext cx="84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John Arne Riise  </a:t>
            </a: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Erik Huseklepp</a:t>
            </a:r>
            <a:br>
              <a:rPr sz="3600"/>
            </a:b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John Carew        </a:t>
            </a: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Brede Hangel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553440" cy="37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.Hvem scorer, hvilket år og mot hv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569080" cy="48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ffffff"/>
                </a:solidFill>
                <a:latin typeface="Arial"/>
              </a:rPr>
              <a:t>15. De var stjerner for Watford på 80-tallet. Hva heter 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630864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6.Hvem scoret fire mål i den norske cupfinalen i 198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5300640"/>
            <a:ext cx="810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Tom Sundby   </a:t>
            </a: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Arne Erlandsen     </a:t>
            </a:r>
            <a:br>
              <a:rPr sz="3600"/>
            </a:b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Andre Krogsæther  </a:t>
            </a: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Tom L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00000" y="1268280"/>
            <a:ext cx="705672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3a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7. Hvem scoret 2-0 målet da Danmark vant EM-finalen i 199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5084640"/>
            <a:ext cx="820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John Jensen      </a:t>
            </a: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Brian Laudrup     </a:t>
            </a:r>
            <a:br>
              <a:rPr sz="3600"/>
            </a:b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Henrik Larsen    </a:t>
            </a:r>
            <a:r>
              <a:rPr b="0" lang="nb-NO" sz="36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nb-NO" sz="3600" spc="-1" strike="noStrike">
                <a:solidFill>
                  <a:srgbClr val="ffff66"/>
                </a:solidFill>
                <a:latin typeface="Arial"/>
              </a:rPr>
              <a:t> Kim Vilf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26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51868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18.Hvorfor spilte Osvaldo Ardiles med nr.1 i VM19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47640" y="907920"/>
            <a:ext cx="6048720" cy="3457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52320" y="4653000"/>
            <a:ext cx="588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nb-NO" sz="2400" spc="-1" strike="noStrike">
                <a:solidFill>
                  <a:srgbClr val="ffff66"/>
                </a:solidFill>
                <a:latin typeface="Arial"/>
              </a:rPr>
              <a:t> Han var overtroisk  </a:t>
            </a:r>
            <a:br>
              <a:rPr sz="2400"/>
            </a:b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nb-NO" sz="2400" spc="-1" strike="noStrike">
                <a:solidFill>
                  <a:srgbClr val="ffff66"/>
                </a:solidFill>
                <a:latin typeface="Arial"/>
              </a:rPr>
              <a:t> Troppen var inndelt alfabetisk     </a:t>
            </a:r>
            <a:br>
              <a:rPr sz="2400"/>
            </a:b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nb-NO" sz="2400" spc="-1" strike="noStrike">
                <a:solidFill>
                  <a:srgbClr val="ffff66"/>
                </a:solidFill>
                <a:latin typeface="Arial"/>
              </a:rPr>
              <a:t> Han mistet en 0 (Hadde egentlig 10)   </a:t>
            </a:r>
            <a:br>
              <a:rPr sz="2400"/>
            </a:br>
            <a:r>
              <a:rPr b="0" lang="nb-NO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nb-NO" sz="2400" spc="-1" strike="noStrike">
                <a:solidFill>
                  <a:srgbClr val="ffff66"/>
                </a:solidFill>
                <a:latin typeface="Arial"/>
              </a:rPr>
              <a:t> Han ble kåret til årest spiller i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Hvilken av disse spillerne har aldri scoret for Norge i et VM-sluttspi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1844640"/>
            <a:ext cx="8229600" cy="282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24000" y="4941720"/>
            <a:ext cx="8316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Dan Eggen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T.A Flo   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Jostein Flo 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Håvard F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640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. Hvem jubler for sin scoring mot Tyskland i 2009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8136000" cy="4235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1840" y="5278320"/>
            <a:ext cx="830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8000"/>
                </a:solidFill>
                <a:latin typeface="Arial"/>
              </a:rPr>
              <a:t>A)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Morten Gamst Pedersen  </a:t>
            </a:r>
            <a:r>
              <a:rPr b="0" lang="nb-NO" sz="3200" spc="-1" strike="noStrike">
                <a:solidFill>
                  <a:srgbClr val="008000"/>
                </a:solidFill>
                <a:latin typeface="Arial"/>
              </a:rPr>
              <a:t>B)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Tom Høgli     </a:t>
            </a:r>
            <a:br>
              <a:rPr sz="3200"/>
            </a:br>
            <a:r>
              <a:rPr b="0" lang="nb-NO" sz="3200" spc="-1" strike="noStrike">
                <a:solidFill>
                  <a:srgbClr val="008000"/>
                </a:solidFill>
                <a:latin typeface="Arial"/>
              </a:rPr>
              <a:t>C)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Kjetil Wæhler    </a:t>
            </a:r>
            <a:r>
              <a:rPr b="0" lang="nb-NO" sz="3200" spc="-1" strike="noStrike">
                <a:solidFill>
                  <a:srgbClr val="008000"/>
                </a:solidFill>
                <a:latin typeface="Arial"/>
              </a:rPr>
              <a:t>D)</a:t>
            </a: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 Christian Grindhei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.Fra Europacupfinalen 1979. Hvem scor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84360" y="1085760"/>
            <a:ext cx="7775280" cy="53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1. Hva heter spilleren på bilde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619280" y="1270080"/>
            <a:ext cx="583236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2.Hvem var det Norge slo i bronsefinalen i OL 1936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187280" y="1484280"/>
            <a:ext cx="6802560" cy="38736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116000" y="5445000"/>
            <a:ext cx="7453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Italia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Tyskland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Polen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Sp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3a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3.Norges landslag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vilke to flagg passer ikke inn h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8229600" cy="35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4.Hvilke spillere er det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68360" y="1413000"/>
            <a:ext cx="8316720" cy="3301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403280" y="4869000"/>
            <a:ext cx="66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4869000"/>
            <a:ext cx="66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236000" y="4869000"/>
            <a:ext cx="66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.Hvem spiller sine hjemmekamper 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704000" cy="52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6.Hvilke landslag skjuler seg bak disse logoen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2390760"/>
            <a:ext cx="82296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7.Hvilken legendarisk spiller er det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56144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3200" spc="-1" strike="noStrike">
                <a:solidFill>
                  <a:srgbClr val="000000"/>
                </a:solidFill>
                <a:latin typeface="Arial"/>
              </a:rPr>
              <a:t>28.Arsenal slår Manchester United 3-2 i F.A Cupfinalen 1979. Hvem scoret seiersmål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164720" cy="44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ffffff"/>
                </a:solidFill>
                <a:latin typeface="Arial"/>
              </a:rPr>
              <a:t>2.Gary Lineker ble toppscorer i 1986 med 6 mål. Deriblant et hat-trick – mot hvem?</a:t>
            </a: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0920" y="5445000"/>
            <a:ext cx="799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) Marokko   B) Polen  C) Paraguay   D) Mex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58920" y="1557360"/>
            <a:ext cx="64800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3a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29.Hvilke resultat er riktig som Norges største landslagsei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9240" y="5661000"/>
            <a:ext cx="800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9-0 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10-0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11-0   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 12-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971640" y="1484280"/>
            <a:ext cx="720072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4000" spc="-1" strike="noStrike">
                <a:solidFill>
                  <a:srgbClr val="000000"/>
                </a:solidFill>
                <a:latin typeface="Arial"/>
              </a:rPr>
              <a:t>30.Hvem scoret Liverpool 1.mål i Champions League finalen 200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561440" cy="41194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56360" y="5759280"/>
            <a:ext cx="777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8000"/>
                </a:solidFill>
                <a:latin typeface="Arial"/>
              </a:rPr>
              <a:t>A)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Smicer     </a:t>
            </a:r>
            <a:r>
              <a:rPr b="0" lang="nb-NO" sz="2800" spc="-1" strike="noStrike">
                <a:solidFill>
                  <a:srgbClr val="008000"/>
                </a:solidFill>
                <a:latin typeface="Arial"/>
              </a:rPr>
              <a:t>B)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Gerrard     </a:t>
            </a:r>
            <a:r>
              <a:rPr b="0" lang="nb-NO" sz="2800" spc="-1" strike="noStrike">
                <a:solidFill>
                  <a:srgbClr val="008000"/>
                </a:solidFill>
                <a:latin typeface="Arial"/>
              </a:rPr>
              <a:t>C)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Baros    </a:t>
            </a:r>
            <a:r>
              <a:rPr b="0" lang="nb-NO" sz="2800" spc="-1" strike="noStrike">
                <a:solidFill>
                  <a:srgbClr val="008000"/>
                </a:solidFill>
                <a:latin typeface="Arial"/>
              </a:rPr>
              <a:t>D)</a:t>
            </a:r>
            <a:r>
              <a:rPr b="0" lang="nb-NO" sz="2800" spc="-1" strike="noStrike">
                <a:solidFill>
                  <a:srgbClr val="000000"/>
                </a:solidFill>
                <a:latin typeface="Arial"/>
              </a:rPr>
              <a:t> Alon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Hvem vant EM i fotball 1984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53120" cy="4284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84360" y="5661000"/>
            <a:ext cx="79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) Sovjet   B) Tyskland  C) Frankrike   D) It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Hvilket år ble NFF stift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411280" y="1268280"/>
            <a:ext cx="4392720" cy="4119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476360" y="5661000"/>
            <a:ext cx="7093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1888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1902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C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1910  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D)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1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3a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Hvilket år tok Liverpool sitt første ligag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67755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03280" y="5877000"/>
            <a:ext cx="65534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A)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1901 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)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1925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C)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1951 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D)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19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6.Med hvem ble Nils Arne Eggen seriemester i 198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70930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Hva heter engelskmennene på bild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207280" cy="52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Hvem ble toppscorer i VM 197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696000" cy="4334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03280" y="5805360"/>
            <a:ext cx="864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800" spc="-1" strike="noStrike">
                <a:solidFill>
                  <a:srgbClr val="008000"/>
                </a:solidFill>
                <a:latin typeface="Arial"/>
              </a:rPr>
              <a:t>A)</a:t>
            </a:r>
            <a:r>
              <a:rPr b="0" lang="nb-NO" sz="2800" spc="-1" strike="noStrike">
                <a:solidFill>
                  <a:srgbClr val="333399"/>
                </a:solidFill>
                <a:latin typeface="Arial"/>
              </a:rPr>
              <a:t> J.Cruyff   </a:t>
            </a:r>
            <a:r>
              <a:rPr b="0" lang="nb-NO" sz="2800" spc="-1" strike="noStrike">
                <a:solidFill>
                  <a:srgbClr val="008000"/>
                </a:solidFill>
                <a:latin typeface="Arial"/>
              </a:rPr>
              <a:t>B)</a:t>
            </a:r>
            <a:r>
              <a:rPr b="0" lang="nb-NO" sz="2800" spc="-1" strike="noStrike">
                <a:solidFill>
                  <a:srgbClr val="333399"/>
                </a:solidFill>
                <a:latin typeface="Arial"/>
              </a:rPr>
              <a:t> G.Müller  </a:t>
            </a:r>
            <a:r>
              <a:rPr b="0" lang="nb-NO" sz="2800" spc="-1" strike="noStrike">
                <a:solidFill>
                  <a:srgbClr val="008000"/>
                </a:solidFill>
                <a:latin typeface="Arial"/>
              </a:rPr>
              <a:t>C)</a:t>
            </a:r>
            <a:r>
              <a:rPr b="0" lang="nb-NO" sz="2800" spc="-1" strike="noStrike">
                <a:solidFill>
                  <a:srgbClr val="333399"/>
                </a:solidFill>
                <a:latin typeface="Arial"/>
              </a:rPr>
              <a:t> G.Lato   </a:t>
            </a:r>
            <a:r>
              <a:rPr b="0" lang="nb-NO" sz="2800" spc="-1" strike="noStrike">
                <a:solidFill>
                  <a:srgbClr val="008000"/>
                </a:solidFill>
                <a:latin typeface="Arial"/>
              </a:rPr>
              <a:t>D)</a:t>
            </a:r>
            <a:r>
              <a:rPr b="0" lang="nb-NO" sz="2800" spc="-1" strike="noStrike">
                <a:solidFill>
                  <a:srgbClr val="333399"/>
                </a:solidFill>
                <a:latin typeface="Arial"/>
              </a:rPr>
              <a:t> R.Riveli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7T11:43:49Z</dcterms:created>
  <dc:creator>Windows XP Mode</dc:creator>
  <dc:description/>
  <dc:language>en-US</dc:language>
  <cp:lastModifiedBy>Windows XP Mode</cp:lastModifiedBy>
  <dcterms:modified xsi:type="dcterms:W3CDTF">2014-08-27T19:34:16Z</dcterms:modified>
  <cp:revision>5</cp:revision>
  <dc:subject/>
  <dc:title>FOTBALLQUIZ</dc:title>
</cp:coreProperties>
</file>