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589-06EB-44DB-8BCE-A68612A4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6E6-89FB-48FD-99E8-B85D9AE2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13D-9B47-4C3D-9B28-638FAC1F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CE2-56B8-4D05-A2ED-06422843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013-8041-45DD-B09A-0F4F46F5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3B0-02B4-47F4-9024-E37F4296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6EC-3F0D-43BB-B9F1-E0714116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C0D-5D09-42D9-B1D5-62447A5F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35C-F9E7-4DA7-8F38-A46C696C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FEA-C2F0-4681-80B7-6B683C18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D5B-E61C-44B3-9B23-8F93D1E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62F-1DA3-47DE-9660-67988D7A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96F5-2DFB-4043-A5D5-C96E08ADB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OTBALLQU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9.Mot hvem spilte Colombia da Andres Escobar scoret sitt skjebnesvangre selvmål i VM 1994?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5445000"/>
            <a:ext cx="79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) USA   B) Sveits  C) Romania   D)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3a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Hvor mange spillere var fra den hjemlige ligaen i Norges VM-tropp 1998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29600" cy="4055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69040" y="566100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) 2      B) 3     C) 4     D)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) Hvilke draktfarger har svenske GA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913800" cy="408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551664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ød og svart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Lys og mørk blå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ød og blå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Grønt og sv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. I Hvilket år ble dette VM-bildet tat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234200" cy="4119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58920" y="5661000"/>
            <a:ext cx="68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1986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1988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1990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Hvem scoret begge Norges mål da vi slo Frankrike 2-0 i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4920" y="5229360"/>
            <a:ext cx="84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John Arne Riise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Erik Huseklepp</a:t>
            </a:r>
            <a:br>
              <a:rPr sz="3600"/>
            </a:b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John Carew      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Brede Hang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5534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Hvem scorer, hvilket år og mot hv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ffff"/>
                </a:solidFill>
                <a:latin typeface="Arial"/>
              </a:rPr>
              <a:t>15. De var stjerner for Watford på 80-tallet. Hva heter 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30864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.Hvem scoret fire mål i den norske cupfinalen i 198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300640"/>
            <a:ext cx="81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Tom Sundby 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Arne Erlandsen     </a:t>
            </a:r>
            <a:br>
              <a:rPr sz="3600"/>
            </a:b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Andre Krogsæther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Tom L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0567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3a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7. Hvem scoret 2-0 målet da Danmark vant EM-finalen i 19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084640"/>
            <a:ext cx="82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John Jensen    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Brian Laudrup     </a:t>
            </a:r>
            <a:br>
              <a:rPr sz="3600"/>
            </a:b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Henrik Larsen  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Kim Vil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186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18.Hvorfor spilte Osvaldo Ardiles med nr.1 i VM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048720" cy="345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52320" y="4653000"/>
            <a:ext cx="58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nb-NO" sz="2400" spc="-1" strike="noStrike">
                <a:solidFill>
                  <a:srgbClr val="ffff66"/>
                </a:solidFill>
                <a:latin typeface="Arial"/>
              </a:rPr>
              <a:t> Han var overtroisk  </a:t>
            </a:r>
            <a:br>
              <a:rPr sz="2400"/>
            </a:b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nb-NO" sz="2400" spc="-1" strike="noStrike">
                <a:solidFill>
                  <a:srgbClr val="ffff66"/>
                </a:solidFill>
                <a:latin typeface="Arial"/>
              </a:rPr>
              <a:t> Troppen var inndelt alfabetisk     </a:t>
            </a:r>
            <a:br>
              <a:rPr sz="2400"/>
            </a:b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nb-NO" sz="2400" spc="-1" strike="noStrike">
                <a:solidFill>
                  <a:srgbClr val="ffff66"/>
                </a:solidFill>
                <a:latin typeface="Arial"/>
              </a:rPr>
              <a:t> Han mistet en 0 (Hadde egentlig 10)   </a:t>
            </a:r>
            <a:br>
              <a:rPr sz="2400"/>
            </a:b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nb-NO" sz="2400" spc="-1" strike="noStrike">
                <a:solidFill>
                  <a:srgbClr val="ffff66"/>
                </a:solidFill>
                <a:latin typeface="Arial"/>
              </a:rPr>
              <a:t> Han ble kåret til årest spiller i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Hvilken av disse spillerne har aldri scoret for Norge i et VM-sluttspi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8229600" cy="282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4941720"/>
            <a:ext cx="831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an Eggen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.A Flo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Jostein Flo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Håvard F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Hvem jubler for sin scoring mot Tyskland i 2009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136000" cy="4235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1840" y="5278320"/>
            <a:ext cx="830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Morten Gamst Pedersen  </a:t>
            </a:r>
            <a:r>
              <a:rPr b="0" lang="nb-NO" sz="32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Tom Høgli     </a:t>
            </a:r>
            <a:br>
              <a:rPr sz="3200"/>
            </a:br>
            <a:r>
              <a:rPr b="0" lang="nb-NO" sz="32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Kjetil Wæhler    </a:t>
            </a:r>
            <a:r>
              <a:rPr b="0" lang="nb-NO" sz="32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Christian Grindhe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Fra Europacupfinalen 1979. Hvem scor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1085760"/>
            <a:ext cx="77752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1. Hva heter spilleren på bild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270080"/>
            <a:ext cx="58323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2.Hvem var det Norge slo i bronsefinalen i OL 193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802560" cy="387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16000" y="5445000"/>
            <a:ext cx="74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Italia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Tysklan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Polen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Sp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3a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3.Norges landsla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vilke to flagg passer ikke inn 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296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4.Hvilke spillere er det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316720" cy="3301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03280" y="4869000"/>
            <a:ext cx="66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4869000"/>
            <a:ext cx="66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4869000"/>
            <a:ext cx="66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Hvem spiller sine hjemmekamper 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40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.Hvilke landslag skjuler seg bak disse logoe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390760"/>
            <a:ext cx="8229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7.Hvilken legendarisk spiller er det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561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8.Arsenal slår Manchester United 3-2 i F.A Cupfinalen 1979. Hvem scoret seiersmål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164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2.Gary Lineker ble toppscorer i 1986 med 6 mål. Deriblant et hat-trick – mot hvem?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0920" y="5445000"/>
            <a:ext cx="799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) Marokko   B) Polen  C) Paraguay   D)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800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3a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9.Hvilke resultat er riktig som Norges største landslagse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240" y="5661000"/>
            <a:ext cx="80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9-0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10-0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11-0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12-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30.Hvem scoret Liverpool 1.mål i Champions League finalen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561440" cy="4119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6360" y="5759280"/>
            <a:ext cx="777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Smicer   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Gerrard   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Baros  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Alo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Hvem vant EM i fotball 1984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53120" cy="428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5661000"/>
            <a:ext cx="79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) Sovjet   B) Tyskland  C) Frankrike   D)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Hvilket år ble NFF stif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92720" cy="411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76360" y="5661000"/>
            <a:ext cx="70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1888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1902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1910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3a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Hvilket år tok Liverpool sitt første ligag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755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5877000"/>
            <a:ext cx="655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1901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1925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1951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)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19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Med hvem ble Nils Arne Eggen seriemester i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093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Hva heter engelskmennene på bild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20728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Hvem ble toppscorer i VM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96000" cy="4334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3280" y="5805360"/>
            <a:ext cx="86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nb-NO" sz="2800" spc="-1" strike="noStrike">
                <a:solidFill>
                  <a:srgbClr val="333399"/>
                </a:solidFill>
                <a:latin typeface="Arial"/>
              </a:rPr>
              <a:t> J.Cruyff 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nb-NO" sz="2800" spc="-1" strike="noStrike">
                <a:solidFill>
                  <a:srgbClr val="333399"/>
                </a:solidFill>
                <a:latin typeface="Arial"/>
              </a:rPr>
              <a:t> G.Müller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nb-NO" sz="2800" spc="-1" strike="noStrike">
                <a:solidFill>
                  <a:srgbClr val="333399"/>
                </a:solidFill>
                <a:latin typeface="Arial"/>
              </a:rPr>
              <a:t> G.Lato 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nb-NO" sz="2800" spc="-1" strike="noStrike">
                <a:solidFill>
                  <a:srgbClr val="333399"/>
                </a:solidFill>
                <a:latin typeface="Arial"/>
              </a:rPr>
              <a:t> R.Rivel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11:43:49Z</dcterms:created>
  <dc:creator>Windows XP Mode</dc:creator>
  <dc:description/>
  <dc:language>en-US</dc:language>
  <cp:lastModifiedBy>Windows XP Mode</cp:lastModifiedBy>
  <dcterms:modified xsi:type="dcterms:W3CDTF">2014-08-27T19:34:16Z</dcterms:modified>
  <cp:revision>5</cp:revision>
  <dc:subject/>
  <dc:title>FOTBALLQUIZ</dc:title>
</cp:coreProperties>
</file>